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4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BFB9-75D9-462C-991E-C5420C00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6A7E-5120-4E49-A135-91259BC9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6EFA-0022-4FF8-A98E-3D5BAEBA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DB2B-9897-4FF6-9262-92265B5B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3BC4-83F9-4F1C-A0EE-E464377D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9BD3-B57D-4B45-99C9-6E4567D6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A1C1-671E-4D89-984B-AF7A8556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591C-7CCD-421E-B2C7-8FE4E329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7BFA-3FF9-41EF-BC0B-D3233A65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579B-2C10-420A-BE91-2DBD07B1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4730-9F7A-400F-83E4-892A769C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1524-D991-4D6D-976A-75336CD0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0F04-45EE-451C-A1D1-1C4EC6D0E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alibri"/>
              </a:rPr>
              <a:t>Poly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gon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158436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0" y="52880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osed figure formed by three or more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Poly 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means many sid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alibri"/>
              </a:rPr>
              <a:t>Octa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g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www.speedysigns.com/images/decals/400c/Speedy/SHAPES/OCTAGON.gif"/>
          <p:cNvPicPr/>
          <p:nvPr/>
        </p:nvPicPr>
        <p:blipFill>
          <a:blip r:embed="rId1"/>
          <a:stretch/>
        </p:blipFill>
        <p:spPr>
          <a:xfrm>
            <a:off x="2819520" y="18288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1852200" y="5533920"/>
            <a:ext cx="591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Octa 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means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alibri"/>
              </a:rPr>
              <a:t>Deca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g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1856520" y="5533920"/>
            <a:ext cx="654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Deca 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means 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://www.math-videos-online.com/images/decagon.jpg"/>
          <p:cNvPicPr/>
          <p:nvPr/>
        </p:nvPicPr>
        <p:blipFill>
          <a:blip r:embed="rId1"/>
          <a:stretch/>
        </p:blipFill>
        <p:spPr>
          <a:xfrm>
            <a:off x="2438280" y="1447920"/>
            <a:ext cx="4572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Congruent Figure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ww.ricksmath.com/images/congruent2.jpg"/>
          <p:cNvPicPr/>
          <p:nvPr/>
        </p:nvPicPr>
        <p:blipFill>
          <a:blip r:embed="rId1"/>
          <a:stretch/>
        </p:blipFill>
        <p:spPr>
          <a:xfrm>
            <a:off x="0" y="1447920"/>
            <a:ext cx="5527800" cy="3352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t2.gstatic.com/images?q=tbn:b9NWrlfmje3idM:http://dumontiermathleap.com/WebMaths/FrenchMaths/FrenchHotPot/08_06_CongruentFiguresAndMotions/stars.jpg&amp;t=1"/>
          <p:cNvPicPr/>
          <p:nvPr/>
        </p:nvPicPr>
        <p:blipFill>
          <a:blip r:embed="rId2"/>
          <a:stretch/>
        </p:blipFill>
        <p:spPr>
          <a:xfrm>
            <a:off x="5029200" y="3581280"/>
            <a:ext cx="3733920" cy="287028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32400" y="4057560"/>
            <a:ext cx="5740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Same siz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Same shap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Congruent Pentag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http://www.coolmath.com/reference/images/poly-pentagon4.gif"/>
          <p:cNvPicPr/>
          <p:nvPr/>
        </p:nvPicPr>
        <p:blipFill>
          <a:blip r:embed="rId1"/>
          <a:stretch/>
        </p:blipFill>
        <p:spPr>
          <a:xfrm>
            <a:off x="1143000" y="1447920"/>
            <a:ext cx="6781680" cy="44956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685800" y="59436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sides and angles are the sa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Equi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lateral Triang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www.800score.com/content/image/triangle_equilateralA.gif"/>
          <p:cNvPicPr/>
          <p:nvPr/>
        </p:nvPicPr>
        <p:blipFill>
          <a:blip r:embed="rId1"/>
          <a:stretch/>
        </p:blipFill>
        <p:spPr>
          <a:xfrm>
            <a:off x="3200400" y="1676520"/>
            <a:ext cx="5791320" cy="464796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0" y="1752480"/>
            <a:ext cx="59436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3 congruent si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Equi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eans equ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Lateral means si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Up Arrow 5"/>
          <p:cNvSpPr/>
          <p:nvPr/>
        </p:nvSpPr>
        <p:spPr>
          <a:xfrm rot="8128800">
            <a:off x="4228920" y="2989440"/>
            <a:ext cx="485640" cy="527040"/>
          </a:xfrm>
          <a:prstGeom prst="up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Up Arrow 6"/>
          <p:cNvSpPr/>
          <p:nvPr/>
        </p:nvSpPr>
        <p:spPr>
          <a:xfrm rot="14014800">
            <a:off x="7679160" y="2895840"/>
            <a:ext cx="484200" cy="580680"/>
          </a:xfrm>
          <a:prstGeom prst="upArrow">
            <a:avLst>
              <a:gd name="adj1" fmla="val 50000"/>
              <a:gd name="adj2" fmla="val 4996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Up Arrow 7"/>
          <p:cNvSpPr/>
          <p:nvPr/>
        </p:nvSpPr>
        <p:spPr>
          <a:xfrm>
            <a:off x="5969160" y="6119640"/>
            <a:ext cx="484200" cy="525600"/>
          </a:xfrm>
          <a:prstGeom prst="upArrow">
            <a:avLst>
              <a:gd name="adj1" fmla="val 50000"/>
              <a:gd name="adj2" fmla="val 50013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www.tutornext.com/system/files/u37/polygons.gif"/>
          <p:cNvPicPr/>
          <p:nvPr/>
        </p:nvPicPr>
        <p:blipFill>
          <a:blip r:embed="rId1"/>
          <a:stretch/>
        </p:blipFill>
        <p:spPr>
          <a:xfrm>
            <a:off x="228600" y="990720"/>
            <a:ext cx="8305920" cy="563868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3140640" y="228600"/>
            <a:ext cx="26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GU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5931000" y="228600"/>
            <a:ext cx="31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RREGU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RREGULAR POLYG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image.wistatutor.com/content/feed/u386/rere.GIF"/>
          <p:cNvPicPr/>
          <p:nvPr/>
        </p:nvPicPr>
        <p:blipFill>
          <a:blip r:embed="rId1"/>
          <a:stretch/>
        </p:blipFill>
        <p:spPr>
          <a:xfrm>
            <a:off x="685800" y="1920960"/>
            <a:ext cx="762012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http://t1.gstatic.com/images?q=tbn:ANd9GcSA6zz5lJO3dkphQX-g4HYgSsRendep-28dNOFYmfWicRe8gdt1"/>
          <p:cNvPicPr/>
          <p:nvPr/>
        </p:nvPicPr>
        <p:blipFill>
          <a:blip r:embed="rId1"/>
          <a:stretch/>
        </p:blipFill>
        <p:spPr>
          <a:xfrm>
            <a:off x="3276720" y="990720"/>
            <a:ext cx="4937040" cy="5029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ISOS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CELES TRIANGL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Down Arrow 4"/>
          <p:cNvSpPr/>
          <p:nvPr/>
        </p:nvSpPr>
        <p:spPr>
          <a:xfrm>
            <a:off x="1219320" y="1371600"/>
            <a:ext cx="484200" cy="7621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0880" y="2209680"/>
            <a:ext cx="3617280" cy="703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ANS S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2446560" y="3505320"/>
            <a:ext cx="136476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S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7475760" y="3352680"/>
            <a:ext cx="136476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S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5495760" y="5867280"/>
            <a:ext cx="1589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Arial"/>
              </a:rPr>
              <a:t>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9360" y="5533920"/>
            <a:ext cx="519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 CONGRU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IDES AND 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SCALENE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 TRIANGL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t1.gstatic.com/images?q=tbn:ANd9GcRbyimVBePFqJ7b9H0Ecrm3qzLzmmDjuN3fnABuuxeu9m5bR-_B"/>
          <p:cNvPicPr/>
          <p:nvPr/>
        </p:nvPicPr>
        <p:blipFill>
          <a:blip r:embed="rId1"/>
          <a:stretch/>
        </p:blipFill>
        <p:spPr>
          <a:xfrm>
            <a:off x="2286000" y="1371600"/>
            <a:ext cx="6553080" cy="4827600"/>
          </a:xfrm>
          <a:prstGeom prst="rect">
            <a:avLst/>
          </a:prstGeom>
          <a:ln w="0">
            <a:noFill/>
          </a:ln>
        </p:spPr>
      </p:pic>
      <p:sp>
        <p:nvSpPr>
          <p:cNvPr id="103" name="Down Arrow 5"/>
          <p:cNvSpPr/>
          <p:nvPr/>
        </p:nvSpPr>
        <p:spPr>
          <a:xfrm>
            <a:off x="1295280" y="16765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316800" y="2895480"/>
            <a:ext cx="4859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VING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DES OR 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Regular Polygon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mathatube.com/images/polygons_1_.jpg"/>
          <p:cNvPicPr/>
          <p:nvPr/>
        </p:nvPicPr>
        <p:blipFill>
          <a:blip r:embed="rId1"/>
          <a:stretch/>
        </p:blipFill>
        <p:spPr>
          <a:xfrm>
            <a:off x="304920" y="1523880"/>
            <a:ext cx="8153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Paralle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www.la-solutions.co.uk/content/MVBA/images/ParallelLinesSeparation.jpg"/>
          <p:cNvPicPr/>
          <p:nvPr/>
        </p:nvPicPr>
        <p:blipFill>
          <a:blip r:embed="rId1"/>
          <a:stretch/>
        </p:blipFill>
        <p:spPr>
          <a:xfrm>
            <a:off x="533520" y="1523880"/>
            <a:ext cx="8153280" cy="508644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645120" y="5288040"/>
            <a:ext cx="846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lines have the distant apart 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will never me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Up Arrow 5"/>
          <p:cNvSpPr/>
          <p:nvPr/>
        </p:nvSpPr>
        <p:spPr>
          <a:xfrm rot="2076600">
            <a:off x="2977920" y="4470480"/>
            <a:ext cx="484200" cy="977760"/>
          </a:xfrm>
          <a:prstGeom prst="upArrow">
            <a:avLst>
              <a:gd name="adj1" fmla="val 50000"/>
              <a:gd name="adj2" fmla="val 4998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Up Arrow 6"/>
          <p:cNvSpPr/>
          <p:nvPr/>
        </p:nvSpPr>
        <p:spPr>
          <a:xfrm rot="13436400">
            <a:off x="4766760" y="2165040"/>
            <a:ext cx="484200" cy="977760"/>
          </a:xfrm>
          <a:prstGeom prst="upArrow">
            <a:avLst>
              <a:gd name="adj1" fmla="val 50000"/>
              <a:gd name="adj2" fmla="val 4998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alibri"/>
              </a:rPr>
              <a:t>Parallel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ogram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teqsmart.org/shop/images/shearing-parallelogram.gif"/>
          <p:cNvPicPr/>
          <p:nvPr/>
        </p:nvPicPr>
        <p:blipFill>
          <a:blip r:embed="rId1"/>
          <a:stretch/>
        </p:blipFill>
        <p:spPr>
          <a:xfrm>
            <a:off x="685800" y="1676520"/>
            <a:ext cx="7772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alibri"/>
              </a:rPr>
              <a:t>Tri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angl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www.examiner.com/images/blog/EXID562/images/shape-triangle.gif"/>
          <p:cNvPicPr/>
          <p:nvPr/>
        </p:nvPicPr>
        <p:blipFill>
          <a:blip r:embed="rId1"/>
          <a:stretch/>
        </p:blipFill>
        <p:spPr>
          <a:xfrm>
            <a:off x="762120" y="1447920"/>
            <a:ext cx="7391160" cy="426708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2131560" y="5334120"/>
            <a:ext cx="506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Tri 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means 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http://www.indstate.edu/cirt/ittrain/resources/tutorials/instructional/hotpotatoes/shape-rectangle.gif"/>
          <p:cNvPicPr/>
          <p:nvPr/>
        </p:nvPicPr>
        <p:blipFill>
          <a:blip r:embed="rId1"/>
          <a:stretch/>
        </p:blipFill>
        <p:spPr>
          <a:xfrm>
            <a:off x="4724280" y="3352680"/>
            <a:ext cx="4114800" cy="2857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alibri"/>
              </a:rPr>
              <a:t>Quadri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250280" y="5334120"/>
            <a:ext cx="685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Quadri 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means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wiki.urbandead.com/images/1/1c/Square.gif"/>
          <p:cNvPicPr/>
          <p:nvPr/>
        </p:nvPicPr>
        <p:blipFill>
          <a:blip r:embed="rId2"/>
          <a:stretch/>
        </p:blipFill>
        <p:spPr>
          <a:xfrm>
            <a:off x="609480" y="19810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www.karenfayeth.com/trapezoid.jpg"/>
          <p:cNvPicPr/>
          <p:nvPr/>
        </p:nvPicPr>
        <p:blipFill>
          <a:blip r:embed="rId3"/>
          <a:stretch/>
        </p:blipFill>
        <p:spPr>
          <a:xfrm>
            <a:off x="4267080" y="1523880"/>
            <a:ext cx="44290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alibri"/>
              </a:rPr>
              <a:t>Penta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g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etc.usf.edu/clipart/36100/36135/pentagon_36135_lg.gif"/>
          <p:cNvPicPr/>
          <p:nvPr/>
        </p:nvPicPr>
        <p:blipFill>
          <a:blip r:embed="rId1"/>
          <a:stretch/>
        </p:blipFill>
        <p:spPr>
          <a:xfrm>
            <a:off x="914400" y="1295280"/>
            <a:ext cx="7162920" cy="472464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1161000" y="5411880"/>
            <a:ext cx="7014240" cy="143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Penta 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means 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alibri"/>
              </a:rPr>
              <a:t>Quadri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lateral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://2.bp.blogspot.com/_RKC_0XsEoqg/TLpDIN7_gsI/AAAAAAAAAt8/kNWuoiL43GQ/s1600/Quadrilateral.png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alibri"/>
              </a:rPr>
              <a:t>Hexa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g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767240" y="5411880"/>
            <a:ext cx="659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alibri"/>
              </a:rPr>
              <a:t>Hexa 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means 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ttp://giraffian.com/pictionary-files/h/hexagon.png"/>
          <p:cNvPicPr/>
          <p:nvPr/>
        </p:nvPicPr>
        <p:blipFill>
          <a:blip r:embed="rId1"/>
          <a:stretch/>
        </p:blipFill>
        <p:spPr>
          <a:xfrm>
            <a:off x="1828800" y="1828800"/>
            <a:ext cx="5334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02:35:08Z</dcterms:created>
  <dc:creator/>
  <dc:description/>
  <dc:language>en-US</dc:language>
  <cp:lastModifiedBy/>
  <dcterms:modified xsi:type="dcterms:W3CDTF">2010-11-21T02:36:28Z</dcterms:modified>
  <cp:revision>1</cp:revision>
  <dc:subject/>
  <dc:title/>
</cp:coreProperties>
</file>